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779640" y="926460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161-C579-4A47-A77F-16F10B7DC8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8953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88480" y="4632480"/>
            <a:ext cx="48913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nde sea necesario, recordar a los participantes los 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nsajes Cla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Un buen gobierno ayuda a los países ricos en petróleo, gas y minerales a traducir esa riqueza en crecimiento económico y reducción de la pobreza. Cuando el gobierno es débil, estos recursos pueden actuar como una "maldición" que resulta en mala gestión, corrupción, pobreza y conflic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a Iniciativa por la Transparencia de las Industrias Extractivas (ITIE/EITI) aboga por la transparencia sobre los ingresos - ofreciendo un enfoque sólido y flexible para conciliar los pagos de la industria con los ingresos del gobiern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formar a los participant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que ellos también recibirán un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uestionario de seguimiento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El propósito es medir la eficacia del evento de capacitación, después de que hayan regresado a sus lugares de trabajo. Llegará después de un hito importante en la sociedad civil y/o un plan de trabajo de la ITIE/EITI, tal como la publicación de un informe fina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0AE-99CD-47EC-92AD-E8B32489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597-A00F-4C39-BCA1-33DDEE6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F83-DD11-4A01-B4E1-93A75EAB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9F4-6A85-4805-8C8E-627F256B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64A-587A-424A-9783-833C33E0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2FF-07AD-4705-B02E-6B6B19AB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D62-1A3A-4EAE-A5A7-2B5DEC1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40D-D169-4330-AACE-207278E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9CD-6CC3-4AF6-ADBD-D6F177E7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09B-9E91-419F-A044-4CFB9B7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1CE3-437E-4957-AAEE-D847FFD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8FB-CA4F-46E4-93A5-5A7013DB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144-F9C8-45A6-9922-ACBBE5DD9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_UNSSC_pantone_660_small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Dinámica: </a:t>
            </a:r>
            <a:br>
              <a:rPr sz="4400"/>
            </a:b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Gran Concurso EBDH-GBR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123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ósi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undir y sorprender a tus coleg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Instruc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7920" y="907560"/>
            <a:ext cx="840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 grupos ... (15 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crib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nco pregunt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obre el EBDH y GBR que dejen perplejos a sus coleg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preguntas pueden estar formuladas en cualquier 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dadero/falso, tipo test, nar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o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s principios más normativos, en orden inver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es son las tres obligaciones de los titulares de oblig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r un ejemplo sencillo usando 'vivienda‘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la sigla oficial del "Examen Periódico Universal" en francés y en españ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Cuál es el Día de los Derechos Humanos, y qué conmemo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bre tres instrumentos regionales (¡es una pregunta con trampa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¿Quién aparece con más frecuencia en imágenes sosteniendo la Declaración Universa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e sus 5 preguntas en un rotafolios - mantenerlo oc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¡A divertirse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900" spc="-1" strike="noStrike">
                <a:solidFill>
                  <a:srgbClr val="0000ff"/>
                </a:solidFill>
                <a:latin typeface="Arial"/>
              </a:rPr>
              <a:t>Evaluación</a:t>
            </a:r>
            <a:endParaRPr b="1" lang="en-US" sz="59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¡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09:07:36Z</dcterms:created>
  <dc:creator>goodale</dc:creator>
  <dc:description/>
  <dc:language>en-US</dc:language>
  <cp:lastModifiedBy>OHCHR</cp:lastModifiedBy>
  <dcterms:modified xsi:type="dcterms:W3CDTF">2011-03-19T16:33:53Z</dcterms:modified>
  <cp:revision>785</cp:revision>
  <dc:subject/>
  <dc:title>PowerPoint Presentation</dc:title>
</cp:coreProperties>
</file>